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7FE8A-FE9B-4EA4-BCD7-6FB92CA0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60D07-DB0B-4D24-9361-08497194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DA420-EB0D-4BB3-9AC6-86919888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D93E9-D5AD-43F2-982C-614E1AD5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7A49-8750-4383-AFDE-29C51C36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5F60-5470-4D7F-90B2-CD90A99B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B81A-14CF-43AD-AF52-5E9631D3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75F4-BD47-4A1A-B6AC-250E0BC1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1ECC-7ADD-402B-AA15-8BDBC8CF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F079-A765-4074-BB65-43EF1D25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547C-8FF3-4B43-B5DC-F835648E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A2C58-11B1-4A53-A996-8B75DBD1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D6BC-4026-4DE5-89F2-B837DD78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1988-C5E6-455E-8AA0-FA8946E1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5275-CABB-4985-9A78-8BCCC68F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404B-61C3-4A8B-853F-AF14A9DE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3EBA-CD6C-4993-B1A9-6DA544A8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5D2AF-428C-4813-8EF1-5245FAC6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00A9C-9534-4915-9BC2-17134491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F66E4-3849-4CD9-B640-42A14E9F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CF083-E5E8-4480-B4B5-B67B48C0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29261-1CDE-46BE-B0F3-B565DFD7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16A5A-CEAB-4138-A93F-ED7B9A27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1B3F9-C604-44E0-81C7-E7A5ADE4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40EE-D419-4125-9C99-7F59FB7BD6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F701-8029-4A28-AEFB-0021AAB5DC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424160"/>
            <a:ext cx="6019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cc0000"/>
                </a:solidFill>
                <a:latin typeface="Arial"/>
              </a:rPr>
              <a:t>Психологическая регуляция поведения и деятельности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ru-RU" sz="3400" spc="-1" strike="noStrike">
                <a:solidFill>
                  <a:srgbClr val="cc0000"/>
                </a:solidFill>
                <a:latin typeface="Arial"/>
              </a:rPr>
              <a:t>– </a:t>
            </a:r>
            <a:r>
              <a:rPr b="0" i="1" lang="ru-RU" sz="3400" spc="-1" strike="noStrike" u="sng">
                <a:solidFill>
                  <a:srgbClr val="cc0000"/>
                </a:solidFill>
                <a:uFillTx/>
                <a:latin typeface="Arial"/>
              </a:rPr>
              <a:t>Эмоциональные</a:t>
            </a:r>
            <a:r>
              <a:rPr b="0" lang="ru-RU" sz="30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0" i="1" lang="ru-RU" sz="3400" spc="-1" strike="noStrike" u="sng">
                <a:solidFill>
                  <a:srgbClr val="cc0000"/>
                </a:solidFill>
                <a:uFillTx/>
                <a:latin typeface="Arial"/>
              </a:rPr>
              <a:t>явле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Процессы внутренней регуляции поведения и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А) </a:t>
            </a:r>
            <a:r>
              <a:rPr b="0" lang="ru-RU" sz="3600" spc="-1" strike="noStrike" u="sng">
                <a:solidFill>
                  <a:srgbClr val="666699"/>
                </a:solidFill>
                <a:uFillTx/>
                <a:latin typeface="Arial"/>
              </a:rPr>
              <a:t>Оценка результата по отношению к цели</a:t>
            </a: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Б) </a:t>
            </a:r>
            <a:r>
              <a:rPr b="0" lang="ru-RU" sz="3600" spc="-1" strike="noStrike" u="sng">
                <a:solidFill>
                  <a:srgbClr val="666699"/>
                </a:solidFill>
                <a:uFillTx/>
                <a:latin typeface="Arial"/>
              </a:rPr>
              <a:t>Оценка результата по отношению к потребности – выражение смы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Эмоция – это реакция на какое-то воздействи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Эмоция – это внутренняя работа. Работа печали З. Фрей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1) Знак (+/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2) Формально-динамические характеристики – интенсивность, дли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(аффекты - собственно эмоции – чувства /А.Н. Леонтьев/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3) Модальность – качественное своеобразие пережи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Успокоение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Удоволь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Неудоволь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я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Возб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.Вунд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3059280" y="458136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H="1">
            <a:off x="2050560" y="4581360"/>
            <a:ext cx="1008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3059280" y="335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4) Базовые (первичные) – производные (вторичные) (Плачик, Изар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Критерии: четкий нервный субстрат, мимика, отчетливо осознанное переживание, имеет адаптационное значение, рано формиру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Базовые эмоции по </a:t>
            </a:r>
            <a:r>
              <a:rPr b="0" lang="en-US" sz="3600" spc="-1" strike="noStrike">
                <a:solidFill>
                  <a:srgbClr val="666699"/>
                </a:solidFill>
                <a:latin typeface="Arial"/>
              </a:rPr>
              <a:t>(Plutchik, 196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Радость – Печ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Принятие – Отвращ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Гнев – Ст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жидание - Уди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Физиологический стресс (Г. Селье) – неспецифический ответ организма на предъявляемое сильное и опасное воздействие – Общий адаптационный синд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Фазы стресса – А) Фаза тревоги, Б) Фаза сопротивления,  В) Фаза исто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1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собенности психологического стресс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Информационный стресс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ПТС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Фрустрация – комплекс эмоциональных реакций в условиях недостижимой цели или неудовлетворения потреб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Ситуации: Лишения, Потери, Конфликт (по Розенцвейг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download"/>
          <p:cNvPicPr/>
          <p:nvPr/>
        </p:nvPicPr>
        <p:blipFill>
          <a:blip r:embed="rId1"/>
          <a:stretch/>
        </p:blipFill>
        <p:spPr>
          <a:xfrm>
            <a:off x="611280" y="2781360"/>
            <a:ext cx="2089080" cy="2641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963705"/>
          <p:cNvPicPr/>
          <p:nvPr/>
        </p:nvPicPr>
        <p:blipFill>
          <a:blip r:embed="rId2"/>
          <a:stretch/>
        </p:blipFill>
        <p:spPr>
          <a:xfrm>
            <a:off x="4284720" y="2421000"/>
            <a:ext cx="34002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Тревога – состояние: 1) Реакция на опасность, 2) которая угрожает «ядру» личности, + 3) ощущение беспомощ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Тревожность – личностная черта - ощущение неопределенной угрозы; чувство диффузного опасения и тревожного ожи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евротическая трев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Эмпа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Быть в состоянии эмпатии – значит воспринимать внутренний мир другого со всеми эмоциональными и смысловыми оттенками. Но без потери ощущения «как будт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(К. Роджер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i?id=21885283&amp;tov=7"/>
          <p:cNvPicPr/>
          <p:nvPr/>
        </p:nvPicPr>
        <p:blipFill>
          <a:blip r:embed="rId1"/>
          <a:stretch/>
        </p:blipFill>
        <p:spPr>
          <a:xfrm>
            <a:off x="1619280" y="2565360"/>
            <a:ext cx="1800360" cy="244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_8"/>
          <p:cNvPicPr/>
          <p:nvPr/>
        </p:nvPicPr>
        <p:blipFill>
          <a:blip r:embed="rId2"/>
          <a:stretch/>
        </p:blipFill>
        <p:spPr>
          <a:xfrm>
            <a:off x="4859280" y="2565360"/>
            <a:ext cx="38098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н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gnev_2"/>
          <p:cNvPicPr/>
          <p:nvPr/>
        </p:nvPicPr>
        <p:blipFill>
          <a:blip r:embed="rId1"/>
          <a:stretch/>
        </p:blipFill>
        <p:spPr>
          <a:xfrm>
            <a:off x="539640" y="2781360"/>
            <a:ext cx="2381400" cy="361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?id=30558465&amp;tov=7"/>
          <p:cNvPicPr/>
          <p:nvPr/>
        </p:nvPicPr>
        <p:blipFill>
          <a:blip r:embed="rId2"/>
          <a:stretch/>
        </p:blipFill>
        <p:spPr>
          <a:xfrm>
            <a:off x="3492360" y="2997360"/>
            <a:ext cx="2664000" cy="208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?id=20998009&amp;tov=8"/>
          <p:cNvPicPr/>
          <p:nvPr/>
        </p:nvPicPr>
        <p:blipFill>
          <a:blip r:embed="rId3"/>
          <a:stretch/>
        </p:blipFill>
        <p:spPr>
          <a:xfrm>
            <a:off x="6732720" y="3213000"/>
            <a:ext cx="15843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ив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Удивление"/>
          <p:cNvPicPr/>
          <p:nvPr/>
        </p:nvPicPr>
        <p:blipFill>
          <a:blip r:embed="rId1"/>
          <a:stretch/>
        </p:blipFill>
        <p:spPr>
          <a:xfrm>
            <a:off x="3203640" y="2852640"/>
            <a:ext cx="3816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юблен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Modi-Portret-Margariti"/>
          <p:cNvPicPr/>
          <p:nvPr/>
        </p:nvPicPr>
        <p:blipFill>
          <a:blip r:embed="rId1"/>
          <a:stretch/>
        </p:blipFill>
        <p:spPr>
          <a:xfrm>
            <a:off x="3492360" y="2276640"/>
            <a:ext cx="251964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Откуда мы знаем о своих собственных эмоциональных состояния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А о чужи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Есть ли эмоции у детей, животных, компьютеров и т.д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3 компонента эмо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Субъективный тон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Поведенческие проявлени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Физиологические процес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цевая экспрессия (мим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m_1684187762_1921956600"/>
          <p:cNvPicPr/>
          <p:nvPr/>
        </p:nvPicPr>
        <p:blipFill>
          <a:blip r:embed="rId1"/>
          <a:stretch/>
        </p:blipFill>
        <p:spPr>
          <a:xfrm>
            <a:off x="2700360" y="2852640"/>
            <a:ext cx="3095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07:53Z</dcterms:created>
  <dc:creator>User</dc:creator>
  <dc:description/>
  <dc:language>en-US</dc:language>
  <cp:lastModifiedBy>User</cp:lastModifiedBy>
  <dcterms:modified xsi:type="dcterms:W3CDTF">2010-05-26T16:03:39Z</dcterms:modified>
  <cp:revision>32</cp:revision>
  <dc:subject/>
  <dc:title>Тема 7 Лекция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40000000000010250600207f5200358026400</vt:lpwstr>
  </property>
</Properties>
</file>